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B0132-09D2-4574-988A-439B3BE04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B179-57F7-4C5E-BFA2-45E9E3B72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21B4A-82CF-43DC-9896-09EA04DDA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A3767-B120-4596-8E98-71B73E1245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4DE44-126B-4E1C-AB72-817E2D135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3516F-A630-4A97-8491-576B52E89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953F7-C331-4708-A827-6EF2A2F16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984B5-77D2-4306-AFC0-AF9DC8FFF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13A4-D7D3-408E-AB5D-B0625C4C83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BAB6-3C95-4F92-8773-7C31096B6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8A05E-A1D0-48AC-AC9D-2755560C62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62C13-EA43-4469-BD37-531B4D8D21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7F1995-A6D0-460A-8F84-1BD72DE3782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58200" cy="7061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70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0-24T09:10:12Z</dcterms:modified>
  <cp:revision>85</cp:revision>
  <dc:subject/>
  <dc:title>No Slide Title</dc:title>
</cp:coreProperties>
</file>